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3D9-8EC2-4DFD-9D50-28E4C1E8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779-4537-4F5E-B7D9-CE953A6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D30-2835-40DD-94E4-4896BF5F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F32-F2A4-44A5-BCF5-4EE81028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CDF-FF4F-4701-B0A2-3EA8EF6B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9B9-8CD4-482E-BF60-955BC0B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4E6-3D28-4C92-A503-044CB1CE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DAB-D682-41F9-A74D-C92BF33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461-7EE2-4E5A-8B94-5194730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974-82FC-4729-9DDE-1B0BD29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9E2-EFA0-4503-AC86-6E700C7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D25-A192-42C2-9069-235EF94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66D-6CEB-40DF-9CA2-B34117B5C16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840" y="714240"/>
            <a:ext cx="8572680" cy="614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e consideran varias etapas en la ruta de biosíntesis de colesterol que se pueden agrupar en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 Estad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rmación de </a:t>
            </a:r>
            <a:r>
              <a:rPr b="1" lang="es-AR" sz="2800" spc="-1" strike="noStrike">
                <a:solidFill>
                  <a:srgbClr val="0000cc"/>
                </a:solidFill>
                <a:latin typeface="Calibri"/>
              </a:rPr>
              <a:t>Hidroximetil glutaril-CoA (HMG-CoA)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    partir de Acetil-CoA (6 Carbo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ducción de HMG-CoA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Acido Mevalónico (Mevalonato) </a:t>
            </a: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(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sforilación y descarboxilación de Mevalonato para 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dar 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 : Acetatos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               I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6 Conector recto de flecha"/>
          <p:cNvCxnSpPr/>
          <p:nvPr/>
        </p:nvCxnSpPr>
        <p:spPr>
          <a:xfrm>
            <a:off x="3643200" y="621504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CuadroTexto"/>
          <p:cNvSpPr/>
          <p:nvPr/>
        </p:nvSpPr>
        <p:spPr>
          <a:xfrm>
            <a:off x="428760" y="0"/>
            <a:ext cx="8429400" cy="60678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Isomerización del IPP para d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Dimetilali-pirofosfato (5C)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isom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IPP (5C) y el Dimetilalilpirofosfato (5C) se condensan para formar el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Geran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0C)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condensa una segunda molécula de IPP con el geranil-pirofosfato para form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Farnes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5C)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escualeno sintetasa cataliza la condensación de dos moléculas de Farnesil-pirofosfato, formando la molécula de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ESCUALENO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 C)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Título"/>
          <p:cNvSpPr/>
          <p:nvPr/>
        </p:nvSpPr>
        <p:spPr>
          <a:xfrm>
            <a:off x="2357280" y="-71280"/>
            <a:ext cx="657252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 CuadroTexto"/>
          <p:cNvSpPr/>
          <p:nvPr/>
        </p:nvSpPr>
        <p:spPr>
          <a:xfrm>
            <a:off x="214200" y="1000080"/>
            <a:ext cx="8572680" cy="4483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 (cont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8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iclación de escualeno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LANO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C) mediante la escualeno monooxige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9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nversión de lanosterol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COLE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27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 : IPP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               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3 Conector recto de flecha"/>
          <p:cNvCxnSpPr/>
          <p:nvPr/>
        </p:nvCxnSpPr>
        <p:spPr>
          <a:xfrm>
            <a:off x="2571480" y="4500720"/>
            <a:ext cx="9291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"/>
          <p:cNvGrpSpPr/>
          <p:nvPr/>
        </p:nvGrpSpPr>
        <p:grpSpPr>
          <a:xfrm>
            <a:off x="714240" y="1571760"/>
            <a:ext cx="5143320" cy="1224000"/>
            <a:chOff x="714240" y="1571760"/>
            <a:chExt cx="5143320" cy="1224000"/>
          </a:xfrm>
        </p:grpSpPr>
        <p:sp>
          <p:nvSpPr>
            <p:cNvPr id="109" name="Text Box 4"/>
            <p:cNvSpPr/>
            <p:nvPr/>
          </p:nvSpPr>
          <p:spPr>
            <a:xfrm>
              <a:off x="714240" y="177336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5"/>
            <p:cNvSpPr/>
            <p:nvPr/>
          </p:nvSpPr>
          <p:spPr>
            <a:xfrm>
              <a:off x="2427120" y="1571760"/>
              <a:ext cx="600840" cy="1224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3050280" y="1857600"/>
              <a:ext cx="28072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2 Acetil-Co  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Tiol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7"/>
          <p:cNvGrpSpPr/>
          <p:nvPr/>
        </p:nvGrpSpPr>
        <p:grpSpPr>
          <a:xfrm>
            <a:off x="4786200" y="1571760"/>
            <a:ext cx="4071600" cy="745200"/>
            <a:chOff x="4786200" y="1571760"/>
            <a:chExt cx="4071600" cy="745200"/>
          </a:xfrm>
        </p:grpSpPr>
        <p:sp>
          <p:nvSpPr>
            <p:cNvPr id="113" name="Text Box 8"/>
            <p:cNvSpPr/>
            <p:nvPr/>
          </p:nvSpPr>
          <p:spPr>
            <a:xfrm>
              <a:off x="6144120" y="1857240"/>
              <a:ext cx="27136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</a:t>
              </a:r>
              <a:r>
                <a:rPr b="1" lang="es-ES" sz="1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4786200" y="1571760"/>
              <a:ext cx="1571760" cy="357120"/>
            </a:xfrm>
            <a:custGeom>
              <a:avLst/>
              <a:gdLst>
                <a:gd name="textAreaLeft" fmla="*/ 318600 w 1571760"/>
                <a:gd name="textAreaRight" fmla="*/ 1193760 w 1571760"/>
                <a:gd name="textAreaTop" fmla="*/ 47880 h 357120"/>
                <a:gd name="textAreaBottom" fmla="*/ 30924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60" hR="21600" stAng="10800000" swAng="5400000"/>
                  <a:lnTo>
                    <a:pt x="12027" y="0"/>
                  </a:lnTo>
                  <a:arcTo wR="8760" hR="21600" stAng="-5400000" swAng="2935036"/>
                  <a:lnTo>
                    <a:pt x="21099" y="14400"/>
                  </a:lnTo>
                  <a:lnTo>
                    <a:pt x="19153" y="21600"/>
                  </a:lnTo>
                  <a:lnTo>
                    <a:pt x="16204" y="14400"/>
                  </a:lnTo>
                  <a:lnTo>
                    <a:pt x="17018" y="14400"/>
                  </a:lnTo>
                  <a:arcTo wR="8760" hR="21600" stAng="-2464964" swAng="-2670935"/>
                  <a:lnTo>
                    <a:pt x="10393" y="379"/>
                  </a:lnTo>
                  <a:arcTo wR="8760" hR="21600" stAng="-5664101" swAng="-5135899"/>
                  <a:close/>
                </a:path>
                <a:path fill="darkenLess" w="21600" h="21600">
                  <a:moveTo>
                    <a:pt x="0" y="21600"/>
                  </a:moveTo>
                  <a:arcTo wR="8760" hR="21600" stAng="10800000" swAng="5400000"/>
                  <a:lnTo>
                    <a:pt x="8760" y="0"/>
                  </a:lnTo>
                  <a:arcTo wR="8760" hR="21600" stAng="-5400000" swAng="264101"/>
                  <a:lnTo>
                    <a:pt x="10393" y="379"/>
                  </a:lnTo>
                  <a:arcTo wR="8760" hR="21600" stAng="-5664101" swAng="-51358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0"/>
          <p:cNvGrpSpPr/>
          <p:nvPr/>
        </p:nvGrpSpPr>
        <p:grpSpPr>
          <a:xfrm>
            <a:off x="539640" y="3044880"/>
            <a:ext cx="8175600" cy="1275480"/>
            <a:chOff x="539640" y="3044880"/>
            <a:chExt cx="8175600" cy="1275480"/>
          </a:xfrm>
        </p:grpSpPr>
        <p:pic>
          <p:nvPicPr>
            <p:cNvPr id="116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CoA </a:t>
              </a: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(4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6500880" y="3860640"/>
              <a:ext cx="22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HMG-CoA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121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4643280" y="4292640"/>
            <a:ext cx="4143240" cy="1008000"/>
            <a:chOff x="4643280" y="4292640"/>
            <a:chExt cx="4143240" cy="1008000"/>
          </a:xfrm>
        </p:grpSpPr>
        <p:sp>
          <p:nvSpPr>
            <p:cNvPr id="124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6443640" y="4508640"/>
              <a:ext cx="234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HMG-CoA reductasa (RE liso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2"/>
          <p:cNvGrpSpPr/>
          <p:nvPr/>
        </p:nvGrpSpPr>
        <p:grpSpPr>
          <a:xfrm>
            <a:off x="3995640" y="4653000"/>
            <a:ext cx="5148360" cy="1972440"/>
            <a:chOff x="3995640" y="4653000"/>
            <a:chExt cx="5148360" cy="1972440"/>
          </a:xfrm>
        </p:grpSpPr>
        <p:pic>
          <p:nvPicPr>
            <p:cNvPr id="128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4"/>
            <p:cNvSpPr/>
            <p:nvPr/>
          </p:nvSpPr>
          <p:spPr>
            <a:xfrm>
              <a:off x="6659640" y="61657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Mevalonato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2771640" y="2924280"/>
            <a:ext cx="1657440" cy="1616400"/>
            <a:chOff x="2771640" y="2924280"/>
            <a:chExt cx="1657440" cy="1616400"/>
          </a:xfrm>
        </p:grpSpPr>
        <p:sp>
          <p:nvSpPr>
            <p:cNvPr id="133" name="Text Box 28"/>
            <p:cNvSpPr/>
            <p:nvPr/>
          </p:nvSpPr>
          <p:spPr>
            <a:xfrm>
              <a:off x="3059280" y="2924280"/>
              <a:ext cx="136836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(citosol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29"/>
            <p:cNvGrpSpPr/>
            <p:nvPr/>
          </p:nvGrpSpPr>
          <p:grpSpPr>
            <a:xfrm>
              <a:off x="2771640" y="3571920"/>
              <a:ext cx="1657440" cy="968760"/>
              <a:chOff x="2771640" y="3571920"/>
              <a:chExt cx="1657440" cy="968760"/>
            </a:xfrm>
          </p:grpSpPr>
          <p:sp>
            <p:nvSpPr>
              <p:cNvPr id="135" name="Text Box 30"/>
              <p:cNvSpPr/>
              <p:nvPr/>
            </p:nvSpPr>
            <p:spPr>
              <a:xfrm>
                <a:off x="2771640" y="3860640"/>
                <a:ext cx="165744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Acetil-Co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+ H</a:t>
                </a:r>
                <a:r>
                  <a:rPr b="1" lang="es-ES" sz="1800" spc="-1" strike="noStrike" baseline="-25000">
                    <a:solidFill>
                      <a:srgbClr val="c0504d"/>
                    </a:solidFill>
                    <a:latin typeface="Calibri"/>
                  </a:rPr>
                  <a:t>2</a:t>
                </a: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V="1">
                <a:off x="2857680" y="3571920"/>
                <a:ext cx="35712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7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17760" y="5143680"/>
            <a:ext cx="17488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Enzima regulad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36 Conector angular"/>
          <p:cNvCxnSpPr/>
          <p:nvPr/>
        </p:nvCxnSpPr>
        <p:spPr>
          <a:xfrm flipH="1" rot="16200000">
            <a:off x="7502760" y="4854240"/>
            <a:ext cx="358200" cy="221400"/>
          </a:xfrm>
          <a:prstGeom prst="bentConnector3">
            <a:avLst>
              <a:gd name="adj1" fmla="val -50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41" name="35 Rectángulo redondeado"/>
          <p:cNvSpPr/>
          <p:nvPr/>
        </p:nvSpPr>
        <p:spPr>
          <a:xfrm>
            <a:off x="6643800" y="6215040"/>
            <a:ext cx="242892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7 Rectángulo redondeado"/>
          <p:cNvSpPr/>
          <p:nvPr/>
        </p:nvSpPr>
        <p:spPr>
          <a:xfrm>
            <a:off x="6500880" y="3857760"/>
            <a:ext cx="221436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4 CuadroTexto"/>
          <p:cNvSpPr/>
          <p:nvPr/>
        </p:nvSpPr>
        <p:spPr>
          <a:xfrm>
            <a:off x="1449000" y="6377040"/>
            <a:ext cx="321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41 Conector recto de flecha"/>
          <p:cNvCxnSpPr/>
          <p:nvPr/>
        </p:nvCxnSpPr>
        <p:spPr>
          <a:xfrm flipH="1">
            <a:off x="5142960" y="6571080"/>
            <a:ext cx="1286280" cy="1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45 Conector recto de flecha"/>
          <p:cNvCxnSpPr/>
          <p:nvPr/>
        </p:nvCxnSpPr>
        <p:spPr>
          <a:xfrm flipH="1" flipV="1">
            <a:off x="5500080" y="6571440"/>
            <a:ext cx="57204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47 Conector recto de flecha"/>
          <p:cNvCxnSpPr/>
          <p:nvPr/>
        </p:nvCxnSpPr>
        <p:spPr>
          <a:xfrm flipH="1" flipV="1">
            <a:off x="5857200" y="6571440"/>
            <a:ext cx="50076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" name="49 CuadroTexto"/>
          <p:cNvSpPr/>
          <p:nvPr/>
        </p:nvSpPr>
        <p:spPr>
          <a:xfrm>
            <a:off x="357120" y="857160"/>
            <a:ext cx="5500800" cy="45972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Acetatos        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                I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50 Conector recto de flecha"/>
          <p:cNvCxnSpPr/>
          <p:nvPr/>
        </p:nvCxnSpPr>
        <p:spPr>
          <a:xfrm>
            <a:off x="3429000" y="107172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42 Rectángulo redondeado"/>
          <p:cNvSpPr/>
          <p:nvPr/>
        </p:nvSpPr>
        <p:spPr>
          <a:xfrm>
            <a:off x="1214280" y="6286680"/>
            <a:ext cx="3214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escanear0012"/>
          <p:cNvPicPr/>
          <p:nvPr/>
        </p:nvPicPr>
        <p:blipFill>
          <a:blip r:embed="rId1"/>
          <a:stretch/>
        </p:blipFill>
        <p:spPr>
          <a:xfrm>
            <a:off x="0" y="-4714920"/>
            <a:ext cx="5072040" cy="1157292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sp>
        <p:nvSpPr>
          <p:cNvPr id="151" name="2 CuadroTexto"/>
          <p:cNvSpPr/>
          <p:nvPr/>
        </p:nvSpPr>
        <p:spPr>
          <a:xfrm>
            <a:off x="5143680" y="16430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Desde IPP a  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Rectángulo"/>
          <p:cNvSpPr/>
          <p:nvPr/>
        </p:nvSpPr>
        <p:spPr>
          <a:xfrm>
            <a:off x="5072040" y="3786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8 y 9)- Conversión de Escualeno  (30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en Colesterol ( 27 C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a través de 20 reac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5 Conector recto de flecha"/>
          <p:cNvCxnSpPr/>
          <p:nvPr/>
        </p:nvCxnSpPr>
        <p:spPr>
          <a:xfrm flipH="1">
            <a:off x="1785600" y="85680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8 Conector recto de flecha"/>
          <p:cNvCxnSpPr/>
          <p:nvPr/>
        </p:nvCxnSpPr>
        <p:spPr>
          <a:xfrm flipH="1">
            <a:off x="1714320" y="5857920"/>
            <a:ext cx="2160" cy="643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9 Conector recto de flecha"/>
          <p:cNvCxnSpPr/>
          <p:nvPr/>
        </p:nvCxnSpPr>
        <p:spPr>
          <a:xfrm flipH="1">
            <a:off x="1785600" y="292860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10 Conector recto de flecha"/>
          <p:cNvCxnSpPr/>
          <p:nvPr/>
        </p:nvCxnSpPr>
        <p:spPr>
          <a:xfrm flipH="1">
            <a:off x="1714320" y="4000680"/>
            <a:ext cx="2160" cy="429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12 Conector recto de flecha"/>
          <p:cNvCxnSpPr/>
          <p:nvPr/>
        </p:nvCxnSpPr>
        <p:spPr>
          <a:xfrm flipH="1">
            <a:off x="1714320" y="5143680"/>
            <a:ext cx="2160" cy="429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13 Conector recto de flecha"/>
          <p:cNvCxnSpPr/>
          <p:nvPr/>
        </p:nvCxnSpPr>
        <p:spPr>
          <a:xfrm flipH="1">
            <a:off x="1784160" y="185688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14 Conector recto de flecha"/>
          <p:cNvCxnSpPr/>
          <p:nvPr/>
        </p:nvCxnSpPr>
        <p:spPr>
          <a:xfrm flipH="1">
            <a:off x="1714320" y="585756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0" name="15 Flecha curvada hacia la derecha"/>
          <p:cNvSpPr/>
          <p:nvPr/>
        </p:nvSpPr>
        <p:spPr>
          <a:xfrm>
            <a:off x="1714680" y="4071960"/>
            <a:ext cx="285480" cy="428760"/>
          </a:xfrm>
          <a:custGeom>
            <a:avLst/>
            <a:gdLst>
              <a:gd name="textAreaLeft" fmla="*/ 38160 w 285480"/>
              <a:gd name="textAreaRight" fmla="*/ 247320 w 285480"/>
              <a:gd name="textAreaTop" fmla="*/ 80280 h 428760"/>
              <a:gd name="textAreaBottom" fmla="*/ 3128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noFill/>
          <a:ln w="1260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16 Flecha curvada hacia la derecha"/>
          <p:cNvSpPr/>
          <p:nvPr/>
        </p:nvSpPr>
        <p:spPr>
          <a:xfrm>
            <a:off x="1714680" y="5143680"/>
            <a:ext cx="285480" cy="428400"/>
          </a:xfrm>
          <a:custGeom>
            <a:avLst/>
            <a:gdLst>
              <a:gd name="textAreaLeft" fmla="*/ 38160 w 285480"/>
              <a:gd name="textAreaRight" fmla="*/ 247320 w 28548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noFill/>
          <a:ln w="1260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8 Flecha curvada hacia la izquierda"/>
          <p:cNvSpPr/>
          <p:nvPr/>
        </p:nvSpPr>
        <p:spPr>
          <a:xfrm>
            <a:off x="1357200" y="5143680"/>
            <a:ext cx="285840" cy="500040"/>
          </a:xfrm>
          <a:custGeom>
            <a:avLst/>
            <a:gdLst>
              <a:gd name="textAreaLeft" fmla="*/ 38160 w 285840"/>
              <a:gd name="textAreaRight" fmla="*/ 247680 w 285840"/>
              <a:gd name="textAreaTop" fmla="*/ 96840 h 500040"/>
              <a:gd name="textAreaBottom" fmla="*/ 3625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83" stAng="-5400000" swAng="5400000"/>
                <a:lnTo>
                  <a:pt x="21600" y="11468"/>
                </a:lnTo>
                <a:arcTo wR="21600" hR="8383" stAng="0" swAng="3381788"/>
                <a:lnTo>
                  <a:pt x="5400" y="21334"/>
                </a:lnTo>
                <a:lnTo>
                  <a:pt x="0" y="18308"/>
                </a:lnTo>
                <a:lnTo>
                  <a:pt x="5400" y="14749"/>
                </a:lnTo>
                <a:lnTo>
                  <a:pt x="5400" y="16499"/>
                </a:lnTo>
                <a:arcTo wR="21600" hR="8383" stAng="3381788" swAng="-3132465"/>
                <a:lnTo>
                  <a:pt x="21231" y="9925"/>
                </a:lnTo>
                <a:arcTo wR="21600" hR="8383" stAng="-249323" swAng="-5150677"/>
                <a:close/>
              </a:path>
              <a:path fill="darkenLess" w="21600" h="21600">
                <a:moveTo>
                  <a:pt x="0" y="0"/>
                </a:moveTo>
                <a:arcTo wR="21600" hR="8383" stAng="-5400000" swAng="5400000"/>
                <a:lnTo>
                  <a:pt x="21600" y="11468"/>
                </a:lnTo>
                <a:arcTo wR="21600" hR="8383" stAng="0" swAng="-249323"/>
                <a:lnTo>
                  <a:pt x="21231" y="9925"/>
                </a:lnTo>
                <a:arcTo wR="21600" hR="8383" stAng="-249323" swAng="-5150677"/>
                <a:close/>
              </a:path>
            </a:pathLst>
          </a:cu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9 Arco"/>
          <p:cNvSpPr/>
          <p:nvPr/>
        </p:nvSpPr>
        <p:spPr>
          <a:xfrm>
            <a:off x="1214280" y="1857240"/>
            <a:ext cx="50040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20 Arco"/>
          <p:cNvSpPr/>
          <p:nvPr/>
        </p:nvSpPr>
        <p:spPr>
          <a:xfrm>
            <a:off x="1285920" y="2928960"/>
            <a:ext cx="50004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21 Arco"/>
          <p:cNvSpPr/>
          <p:nvPr/>
        </p:nvSpPr>
        <p:spPr>
          <a:xfrm>
            <a:off x="1214280" y="4000680"/>
            <a:ext cx="50040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22 Rectángulo redondeado"/>
          <p:cNvSpPr/>
          <p:nvPr/>
        </p:nvSpPr>
        <p:spPr>
          <a:xfrm>
            <a:off x="857160" y="0"/>
            <a:ext cx="178596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25 Rectángulo redondeado"/>
          <p:cNvSpPr/>
          <p:nvPr/>
        </p:nvSpPr>
        <p:spPr>
          <a:xfrm>
            <a:off x="1009800" y="1214280"/>
            <a:ext cx="149040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6 Rectángulo redondeado"/>
          <p:cNvSpPr/>
          <p:nvPr/>
        </p:nvSpPr>
        <p:spPr>
          <a:xfrm>
            <a:off x="1009800" y="2357280"/>
            <a:ext cx="149040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7 Rectángulo redondeado"/>
          <p:cNvSpPr/>
          <p:nvPr/>
        </p:nvSpPr>
        <p:spPr>
          <a:xfrm>
            <a:off x="1009800" y="3357720"/>
            <a:ext cx="14904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8 Rectángulo redondeado"/>
          <p:cNvSpPr/>
          <p:nvPr/>
        </p:nvSpPr>
        <p:spPr>
          <a:xfrm>
            <a:off x="1009800" y="4643280"/>
            <a:ext cx="17762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9 Rectángulo redondeado"/>
          <p:cNvSpPr/>
          <p:nvPr/>
        </p:nvSpPr>
        <p:spPr>
          <a:xfrm>
            <a:off x="1009800" y="5572080"/>
            <a:ext cx="178596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0 Rectángulo redondeado"/>
          <p:cNvSpPr/>
          <p:nvPr/>
        </p:nvSpPr>
        <p:spPr>
          <a:xfrm>
            <a:off x="642960" y="6286680"/>
            <a:ext cx="2214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1 CuadroTexto"/>
          <p:cNvSpPr/>
          <p:nvPr/>
        </p:nvSpPr>
        <p:spPr>
          <a:xfrm>
            <a:off x="1071720" y="4692600"/>
            <a:ext cx="1071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Escual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2 CuadroTexto"/>
          <p:cNvSpPr/>
          <p:nvPr/>
        </p:nvSpPr>
        <p:spPr>
          <a:xfrm>
            <a:off x="1224000" y="5621400"/>
            <a:ext cx="120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Lanoster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3 CuadroTexto"/>
          <p:cNvSpPr/>
          <p:nvPr/>
        </p:nvSpPr>
        <p:spPr>
          <a:xfrm>
            <a:off x="785880" y="6478560"/>
            <a:ext cx="1428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COLESTER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4 CuadroTexto"/>
          <p:cNvSpPr/>
          <p:nvPr/>
        </p:nvSpPr>
        <p:spPr>
          <a:xfrm>
            <a:off x="3141720" y="428760"/>
            <a:ext cx="45036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5 CuadroTexto"/>
          <p:cNvSpPr/>
          <p:nvPr/>
        </p:nvSpPr>
        <p:spPr>
          <a:xfrm>
            <a:off x="3120840" y="1438200"/>
            <a:ext cx="52524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D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6 CuadroTexto"/>
          <p:cNvSpPr/>
          <p:nvPr/>
        </p:nvSpPr>
        <p:spPr>
          <a:xfrm>
            <a:off x="3117240" y="2500200"/>
            <a:ext cx="52668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G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7 CuadroTexto"/>
          <p:cNvSpPr/>
          <p:nvPr/>
        </p:nvSpPr>
        <p:spPr>
          <a:xfrm>
            <a:off x="3117960" y="3571920"/>
            <a:ext cx="48996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42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072040" y="0"/>
            <a:ext cx="3784680" cy="6711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1357200" y="5270400"/>
            <a:ext cx="1714680" cy="730440"/>
          </a:xfrm>
          <a:prstGeom prst="rect">
            <a:avLst/>
          </a:prstGeom>
          <a:ln w="0">
            <a:noFill/>
          </a:ln>
        </p:spPr>
      </p:pic>
      <p:sp>
        <p:nvSpPr>
          <p:cNvPr id="183" name="4 Rectángulo redondeado"/>
          <p:cNvSpPr/>
          <p:nvPr/>
        </p:nvSpPr>
        <p:spPr>
          <a:xfrm>
            <a:off x="7215120" y="6429240"/>
            <a:ext cx="185760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2143080" y="1857240"/>
            <a:ext cx="14288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6 Rectángulo redondeado"/>
          <p:cNvSpPr/>
          <p:nvPr/>
        </p:nvSpPr>
        <p:spPr>
          <a:xfrm>
            <a:off x="7572240" y="4143240"/>
            <a:ext cx="128592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7 CuadroTexto"/>
          <p:cNvSpPr/>
          <p:nvPr/>
        </p:nvSpPr>
        <p:spPr>
          <a:xfrm>
            <a:off x="1488960" y="214200"/>
            <a:ext cx="58284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8 Conector recto de flecha"/>
          <p:cNvCxnSpPr/>
          <p:nvPr/>
        </p:nvCxnSpPr>
        <p:spPr>
          <a:xfrm>
            <a:off x="787320" y="428760"/>
            <a:ext cx="7135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8" name="9 Conector recto de flecha"/>
          <p:cNvCxnSpPr/>
          <p:nvPr/>
        </p:nvCxnSpPr>
        <p:spPr>
          <a:xfrm flipH="1">
            <a:off x="1785600" y="57132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9" name="13 Conector recto de flecha"/>
          <p:cNvCxnSpPr/>
          <p:nvPr/>
        </p:nvCxnSpPr>
        <p:spPr>
          <a:xfrm>
            <a:off x="713880" y="428760"/>
            <a:ext cx="50076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34 CuadroTexto"/>
          <p:cNvSpPr/>
          <p:nvPr/>
        </p:nvSpPr>
        <p:spPr>
          <a:xfrm>
            <a:off x="142920" y="263520"/>
            <a:ext cx="57132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3500280" y="2571840"/>
            <a:ext cx="91944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6"/>
          <p:cNvSpPr/>
          <p:nvPr/>
        </p:nvSpPr>
        <p:spPr>
          <a:xfrm flipH="1" flipV="1">
            <a:off x="3428640" y="3500280"/>
            <a:ext cx="1214280" cy="6429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724360" y="4797360"/>
            <a:ext cx="2376720" cy="10087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dicamentos: Estatinas (Lovastat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5"/>
          <p:cNvSpPr/>
          <p:nvPr/>
        </p:nvSpPr>
        <p:spPr>
          <a:xfrm flipH="1" flipV="1">
            <a:off x="1928520" y="3785760"/>
            <a:ext cx="49320" cy="143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18 CuadroTexto"/>
          <p:cNvSpPr/>
          <p:nvPr/>
        </p:nvSpPr>
        <p:spPr>
          <a:xfrm>
            <a:off x="1051920" y="1714680"/>
            <a:ext cx="216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Calibri"/>
              </a:rPr>
              <a:t>Fosforilación reversib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Calibri"/>
              </a:rPr>
              <a:t>hormona depend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03200" y="632952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0000cc"/>
                </a:solidFill>
                <a:uFillTx/>
                <a:latin typeface="Comic Sans MS"/>
              </a:rPr>
              <a:t>HMG-CoA reductasa –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Comic Sans MS"/>
              </a:rPr>
              <a:t>fosforilada</a:t>
            </a:r>
            <a:r>
              <a:rPr b="1" i="1" lang="es-ES" sz="1600" spc="-1" strike="noStrike" u="sng">
                <a:solidFill>
                  <a:srgbClr val="0000cc"/>
                </a:solidFill>
                <a:uFillTx/>
                <a:latin typeface="Comic Sans MS"/>
              </a:rPr>
              <a:t> =  INACTIV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8"/>
          <p:cNvGrpSpPr/>
          <p:nvPr/>
        </p:nvGrpSpPr>
        <p:grpSpPr>
          <a:xfrm>
            <a:off x="1428840" y="1285920"/>
            <a:ext cx="6632640" cy="5113440"/>
            <a:chOff x="1428840" y="1285920"/>
            <a:chExt cx="6632640" cy="51134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428840" y="1285920"/>
              <a:ext cx="663264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2406960" y="37558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(Células y tejido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2176200" y="46069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(HDL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3 CuadroTexto"/>
          <p:cNvSpPr/>
          <p:nvPr/>
        </p:nvSpPr>
        <p:spPr>
          <a:xfrm flipH="1">
            <a:off x="285120" y="357120"/>
            <a:ext cx="849636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Para su almacenamiento, el colesterol se puede esterificar con á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51760" y="359244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Oleil-Co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 ACAT-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inoleil-Co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 LCAT-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intracelular</a:t>
            </a:r>
            <a:br>
              <a:rPr sz="2900"/>
            </a:br>
            <a:r>
              <a:rPr b="1" lang="es-ES" sz="2900" spc="-1" strike="noStrike">
                <a:solidFill>
                  <a:srgbClr val="200ffd"/>
                </a:solidFill>
                <a:latin typeface="Arial"/>
                <a:ea typeface="Arial"/>
              </a:rPr>
              <a:t>en células y tejid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218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220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226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227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ángulo 4"/>
          <p:cNvSpPr/>
          <p:nvPr/>
        </p:nvSpPr>
        <p:spPr>
          <a:xfrm>
            <a:off x="900000" y="26028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</a:t>
            </a:r>
            <a:br>
              <a:rPr sz="3100"/>
            </a:br>
            <a:r>
              <a:rPr b="1" lang="es-ES" sz="3100" spc="-1" strike="noStrike">
                <a:solidFill>
                  <a:srgbClr val="200ffd"/>
                </a:solidFill>
                <a:latin typeface="Arial"/>
                <a:ea typeface="Arial"/>
              </a:rPr>
              <a:t>en las HD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laguiadelasvitaminas.com/wp-content/uploads/2014/03/Alimentos-ricos-en-colesterol.jpg"/>
          <p:cNvPicPr/>
          <p:nvPr/>
        </p:nvPicPr>
        <p:blipFill>
          <a:blip r:embed="rId1"/>
          <a:stretch/>
        </p:blipFill>
        <p:spPr>
          <a:xfrm>
            <a:off x="792000" y="3971880"/>
            <a:ext cx="3637080" cy="2457360"/>
          </a:xfrm>
          <a:prstGeom prst="rect">
            <a:avLst/>
          </a:prstGeom>
          <a:ln w="0">
            <a:noFill/>
          </a:ln>
        </p:spPr>
      </p:pic>
      <p:sp>
        <p:nvSpPr>
          <p:cNvPr id="48" name="5 CuadroTexto"/>
          <p:cNvSpPr/>
          <p:nvPr/>
        </p:nvSpPr>
        <p:spPr>
          <a:xfrm>
            <a:off x="500040" y="642960"/>
            <a:ext cx="828684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L C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ext Box 11" descr=""/>
          <p:cNvPicPr/>
          <p:nvPr/>
        </p:nvPicPr>
        <p:blipFill>
          <a:blip r:embed="rId2"/>
          <a:stretch/>
        </p:blipFill>
        <p:spPr>
          <a:xfrm>
            <a:off x="328680" y="1378080"/>
            <a:ext cx="8772480" cy="347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fi19p17"/>
          <p:cNvPicPr/>
          <p:nvPr/>
        </p:nvPicPr>
        <p:blipFill>
          <a:blip r:embed="rId3"/>
          <a:srcRect l="7480" t="26347" r="6693" b="35523"/>
          <a:stretch/>
        </p:blipFill>
        <p:spPr>
          <a:xfrm>
            <a:off x="5000760" y="5114880"/>
            <a:ext cx="295884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10 CuadroTexto"/>
          <p:cNvSpPr/>
          <p:nvPr/>
        </p:nvSpPr>
        <p:spPr>
          <a:xfrm>
            <a:off x="5857920" y="65721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.vitonica.com/2010/01/coleterol.jpg"/>
          <p:cNvPicPr/>
          <p:nvPr/>
        </p:nvPicPr>
        <p:blipFill>
          <a:blip r:embed="rId1"/>
          <a:stretch/>
        </p:blipFill>
        <p:spPr>
          <a:xfrm>
            <a:off x="571680" y="1000080"/>
            <a:ext cx="758484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285920" y="357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1787040" y="285840"/>
            <a:ext cx="5373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ontenido de Colesterol en los ali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(Ejempl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 CuadroTexto"/>
          <p:cNvSpPr/>
          <p:nvPr/>
        </p:nvSpPr>
        <p:spPr>
          <a:xfrm>
            <a:off x="1386360" y="6286680"/>
            <a:ext cx="59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Los alimentos de origen vegetal NO POSEEN 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www.cientic.com/imagens/qi/heterotrofia/heterotrofia_04.png"/>
          <p:cNvPicPr/>
          <p:nvPr/>
        </p:nvPicPr>
        <p:blipFill>
          <a:blip r:embed="rId1"/>
          <a:stretch/>
        </p:blipFill>
        <p:spPr>
          <a:xfrm>
            <a:off x="0" y="2786040"/>
            <a:ext cx="6375240" cy="4357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s://encrypted-tbn1.gstatic.com/images?q=tbn:ANd9GcT676jW9v0oYR4mfAxb8q4tKfBEqcWjc24eZLPrwxCuWJgDs33k"/>
          <p:cNvPicPr/>
          <p:nvPr/>
        </p:nvPicPr>
        <p:blipFill>
          <a:blip r:embed="rId2"/>
          <a:stretch/>
        </p:blipFill>
        <p:spPr>
          <a:xfrm>
            <a:off x="6551640" y="3798720"/>
            <a:ext cx="2179440" cy="255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html.rincondelvago.com/000250193.jpg"/>
          <p:cNvPicPr/>
          <p:nvPr/>
        </p:nvPicPr>
        <p:blipFill>
          <a:blip r:embed="rId3"/>
          <a:stretch/>
        </p:blipFill>
        <p:spPr>
          <a:xfrm>
            <a:off x="2428920" y="571680"/>
            <a:ext cx="342252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785880"/>
            <a:ext cx="292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Constituye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de las membranas biológica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relación c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la flui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2" descr="http://html.rincondelvago.com/000250194.jpg"/>
          <p:cNvPicPr/>
          <p:nvPr/>
        </p:nvPicPr>
        <p:blipFill>
          <a:blip r:embed="rId4"/>
          <a:stretch/>
        </p:blipFill>
        <p:spPr>
          <a:xfrm>
            <a:off x="5597640" y="500040"/>
            <a:ext cx="3546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73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85880" y="1356840"/>
            <a:ext cx="36435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s-ES_tradnl" sz="2500" spc="-1" strike="noStrike">
                <a:solidFill>
                  <a:srgbClr val="c00000"/>
                </a:solidFill>
                <a:latin typeface="Arial"/>
                <a:ea typeface="Arial"/>
              </a:rPr>
              <a:t>E</a:t>
            </a: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l Colesterol…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 ¿Cómo ingresa </a:t>
            </a: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y sale </a:t>
            </a: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del Hígado?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-</a:t>
            </a: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En el hombre, el Colesterol</a:t>
            </a:r>
            <a:br>
              <a:rPr sz="1600"/>
            </a:b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No se degrada </a:t>
            </a:r>
            <a:br>
              <a:rPr sz="1600"/>
            </a:br>
            <a:br>
              <a:rPr sz="1600"/>
            </a:b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-Ingresos y egresos deben mantener un equilibrio</a:t>
            </a:r>
            <a:br>
              <a:rPr sz="16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scanear0012"/>
          <p:cNvPicPr/>
          <p:nvPr/>
        </p:nvPicPr>
        <p:blipFill>
          <a:blip r:embed="rId1"/>
          <a:stretch/>
        </p:blipFill>
        <p:spPr>
          <a:xfrm>
            <a:off x="928800" y="142920"/>
            <a:ext cx="3929040" cy="671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4 CuadroTexto"/>
          <p:cNvSpPr/>
          <p:nvPr/>
        </p:nvSpPr>
        <p:spPr>
          <a:xfrm>
            <a:off x="5072040" y="285840"/>
            <a:ext cx="407196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METABOLISM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EL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COLESTEROL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structura química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071720" y="435132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250920" y="1546200"/>
            <a:ext cx="3528720" cy="2311200"/>
            <a:chOff x="250920" y="1546200"/>
            <a:chExt cx="3528720" cy="2311200"/>
          </a:xfrm>
        </p:grpSpPr>
        <p:pic>
          <p:nvPicPr>
            <p:cNvPr id="83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620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6"/>
            <p:cNvSpPr/>
            <p:nvPr/>
          </p:nvSpPr>
          <p:spPr>
            <a:xfrm>
              <a:off x="250920" y="352008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4430880" y="1542960"/>
            <a:ext cx="4386240" cy="2814840"/>
            <a:chOff x="4430880" y="1542960"/>
            <a:chExt cx="4386240" cy="2814840"/>
          </a:xfrm>
        </p:grpSpPr>
        <p:pic>
          <p:nvPicPr>
            <p:cNvPr id="86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5429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9"/>
            <p:cNvSpPr/>
            <p:nvPr/>
          </p:nvSpPr>
          <p:spPr>
            <a:xfrm>
              <a:off x="5867280" y="39178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9 CuadroTexto"/>
          <p:cNvSpPr/>
          <p:nvPr/>
        </p:nvSpPr>
        <p:spPr>
          <a:xfrm>
            <a:off x="6730560" y="85716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7180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_x0010_Fig 21-30.GIF060                                               0000691B_x0013_Sumanas' Hard Drive            B4EBCDA7:"/>
          <p:cNvPicPr/>
          <p:nvPr/>
        </p:nvPicPr>
        <p:blipFill>
          <a:blip r:embed="rId1"/>
          <a:stretch/>
        </p:blipFill>
        <p:spPr>
          <a:xfrm>
            <a:off x="1428840" y="214308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600084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572080" y="422604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s C negros derivan del grupo metilo del 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alibri"/>
              </a:rPr>
              <a:t>Los C rojos derivan del carboxilo del 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6 CuadroTexto"/>
          <p:cNvSpPr/>
          <p:nvPr/>
        </p:nvSpPr>
        <p:spPr>
          <a:xfrm>
            <a:off x="4500720" y="9288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Origen de los átom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de C del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73000" y="2714760"/>
            <a:ext cx="1008360" cy="398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3779280" y="5324400"/>
            <a:ext cx="16711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9 CuadroTexto"/>
          <p:cNvSpPr/>
          <p:nvPr/>
        </p:nvSpPr>
        <p:spPr>
          <a:xfrm>
            <a:off x="974520" y="12142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27 átomos de C provien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 un único precur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10 Llamada con línea 3"/>
          <p:cNvSpPr/>
          <p:nvPr/>
        </p:nvSpPr>
        <p:spPr>
          <a:xfrm>
            <a:off x="714240" y="1214280"/>
            <a:ext cx="36435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91" y="3591"/>
                </a:moveTo>
                <a:lnTo>
                  <a:pt x="-3519" y="3591"/>
                </a:lnTo>
                <a:lnTo>
                  <a:pt x="-3600" y="21600"/>
                </a:lnTo>
                <a:lnTo>
                  <a:pt x="4767" y="4333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CuadroTexto"/>
          <p:cNvSpPr/>
          <p:nvPr/>
        </p:nvSpPr>
        <p:spPr>
          <a:xfrm>
            <a:off x="285840" y="857160"/>
            <a:ext cx="8501040" cy="563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Todos los átomos de carbono del colesterol provienen d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grupo acetilo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de un Acil-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Las enzimas que participan son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citoplasmáticas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con la excepción de una (escualeno oxidasa) que es microsomal (Retículo endoplásmi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El agente reductor en las reacciones de biosíntesis es 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- Los tejidos más activos en esta síntesis son: hígado, intestino, corteza suprarrenal, gónadas, músculo, piel y tejido adipo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2:51:21Z</dcterms:created>
  <dc:creator>ali y facu</dc:creator>
  <dc:description/>
  <dc:language>en-US</dc:language>
  <cp:lastModifiedBy>ali y facu</cp:lastModifiedBy>
  <dcterms:modified xsi:type="dcterms:W3CDTF">2014-10-12T07:09:20Z</dcterms:modified>
  <cp:revision>4</cp:revision>
  <dc:subject/>
  <dc:title>Diapositiva 1</dc:title>
</cp:coreProperties>
</file>